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tai%20chi%20music.wav" ContentType="audio/x-wav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6C9-D520-4326-BD9F-9DA245CA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8168-622D-4AF6-841B-F5507BEB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1541-1A65-46C0-99D3-9B00F56C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266-7051-4AEE-9F5B-C304405C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18D-0DF7-4279-A1DB-D893C9E0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1AB-879C-46EE-81BD-902C9F80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7057-9480-474C-8B30-E96387E8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386-5AAE-41C1-9D9F-8ABD025C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95F-1753-4366-B660-6D5C83ED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2F10-916F-4597-B9BD-EB057046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553-7E93-4195-9988-1984688B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9A4-0DBE-4F5F-AAE0-58B1A298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13A7-9AA4-44D1-874E-8FE88FEB8470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audio" Target="../media/tai%20chi%20music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tent Placeholder 3" descr="Slide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4360" y="620640"/>
            <a:ext cx="78120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MISTERELE ASIE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2286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604360" y="6381720"/>
            <a:ext cx="309600" cy="2714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tai%20chi%20music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64760" y="6093000"/>
            <a:ext cx="3577680" cy="398880"/>
          </a:xfrm>
          <a:prstGeom prst="rect">
            <a:avLst/>
          </a:prstGeom>
          <a:solidFill>
            <a:srgbClr val="de6f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Camboya - Templo de Angk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1320" y="6021360"/>
            <a:ext cx="3480120" cy="398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Corea del Norte - Pyongy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c4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3480" y="6093000"/>
            <a:ext cx="3166200" cy="398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Corea del Sur – Seul L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8080" y="6021360"/>
            <a:ext cx="5728320" cy="398880"/>
          </a:xfrm>
          <a:prstGeom prst="rect">
            <a:avLst/>
          </a:prstGeom>
          <a:solidFill>
            <a:srgbClr val="da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Emiratos Árabes Unidos – Desierto de Margham</a:t>
            </a: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da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5480" y="6093000"/>
            <a:ext cx="4636800" cy="398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Filipinas - Mujer de Zamboanga del S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2560" y="6093000"/>
            <a:ext cx="3236400" cy="398880"/>
          </a:xfrm>
          <a:prstGeom prst="rect">
            <a:avLst/>
          </a:prstGeom>
          <a:solidFill>
            <a:srgbClr val="de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Yemen - Ciudad de Sana’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ea7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0" r="0" b="111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4560" y="6021360"/>
            <a:ext cx="2809800" cy="3988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India – Agra, Taj Mah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2720" y="6159600"/>
            <a:ext cx="3522960" cy="398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Indonesia – Campos de arr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2400" y="6093000"/>
            <a:ext cx="339192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Irán - Khalvat-e-Karim Kh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6093000"/>
            <a:ext cx="2003400" cy="398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Iraq – Sonri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404640"/>
            <a:ext cx="5040360" cy="3988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Afganistán - Mazar-e Sharif mezquita az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411720" y="404640"/>
            <a:ext cx="5319720" cy="398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Israel - Jerusalen, muro de las lam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100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0760" y="6093000"/>
            <a:ext cx="3605040" cy="398880"/>
          </a:xfrm>
          <a:prstGeom prst="rect">
            <a:avLst/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Japón - Kyoto Pabellón de 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0" b="111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3480" y="6093000"/>
            <a:ext cx="1992600" cy="398880"/>
          </a:xfrm>
          <a:prstGeom prst="rect">
            <a:avLst/>
          </a:prstGeom>
          <a:solidFill>
            <a:srgbClr val="8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Jordania - Pe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0" b="111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3120" y="6021360"/>
            <a:ext cx="2896560" cy="398880"/>
          </a:xfrm>
          <a:prstGeom prst="rect">
            <a:avLst/>
          </a:prstGeom>
          <a:solidFill>
            <a:srgbClr val="da5800"/>
          </a:solidFill>
          <a:ln w="9360">
            <a:solidFill>
              <a:srgbClr val="da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Kazajistán - Mar de A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da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6165720"/>
            <a:ext cx="4535280" cy="3988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000" spc="-1" strike="noStrike">
                <a:solidFill>
                  <a:srgbClr val="ffffff"/>
                </a:solidFill>
                <a:latin typeface="Arial"/>
                <a:ea typeface="Arial"/>
              </a:rPr>
              <a:t>Kirguizistán – Nómadas del siglo X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0760" y="333360"/>
            <a:ext cx="4172040" cy="398880"/>
          </a:xfrm>
          <a:prstGeom prst="rect">
            <a:avLst/>
          </a:prstGeom>
          <a:solidFill>
            <a:srgbClr val="000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000" spc="-1" strike="noStrike">
                <a:solidFill>
                  <a:srgbClr val="ffffff"/>
                </a:solidFill>
                <a:latin typeface="Arial"/>
                <a:ea typeface="Arial"/>
              </a:rPr>
              <a:t>Kuwait – La ciudad de los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3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1480" y="6093000"/>
            <a:ext cx="3970800" cy="398880"/>
          </a:xfrm>
          <a:prstGeom prst="rect">
            <a:avLst/>
          </a:prstGeom>
          <a:solidFill>
            <a:srgbClr val="ea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aos - Vientiane, Pha That Lu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da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2760" y="6021360"/>
            <a:ext cx="2940840" cy="398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Líbano - Beirut Raou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0600" y="6021360"/>
            <a:ext cx="4368600" cy="3988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Malasia - Mezquita  de Masjid Jam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94560" y="6093000"/>
            <a:ext cx="1780920" cy="398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Islas Malv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6165720"/>
            <a:ext cx="354636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Arabia Saudita - La Me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0760" y="6021360"/>
            <a:ext cx="4354920" cy="39888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Mongolia - Participantes del Naa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2760" y="6093000"/>
            <a:ext cx="417060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ff"/>
                </a:solidFill>
                <a:latin typeface="Arial"/>
                <a:ea typeface="Arial"/>
              </a:rPr>
              <a:t>Birmania - Pagoda de Shwe D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44240" y="6159600"/>
            <a:ext cx="3890160" cy="398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Nepal - Montañas de Thamser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0" t="0" r="0" b="27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18600" y="6165720"/>
            <a:ext cx="3960360" cy="398880"/>
          </a:xfrm>
          <a:prstGeom prst="rect">
            <a:avLst/>
          </a:prstGeom>
          <a:solidFill>
            <a:srgbClr val="996633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Omán – Mujer beduina con bu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2760" y="6021360"/>
            <a:ext cx="2869200" cy="398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Paquistán - K2 (8611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69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68360" y="6093000"/>
            <a:ext cx="511344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Palestina – Gaza, buscando al enem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435640" y="6093000"/>
            <a:ext cx="3384360" cy="7038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Qatar – Carrera de camel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a4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0" t="0" r="0" b="90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8360" y="6021360"/>
            <a:ext cx="1851120" cy="398880"/>
          </a:xfrm>
          <a:prstGeom prst="rect">
            <a:avLst/>
          </a:prstGeom>
          <a:solidFill>
            <a:srgbClr val="c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Rusia - Sib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69080" y="6021360"/>
            <a:ext cx="1200240" cy="398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</a:rPr>
              <a:t>Singag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5640" y="6165720"/>
            <a:ext cx="1791720" cy="398880"/>
          </a:xfrm>
          <a:prstGeom prst="rect">
            <a:avLst/>
          </a:prstGeom>
          <a:solidFill>
            <a:srgbClr val="c8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íria - Palm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a4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4494240" y="6093000"/>
            <a:ext cx="4286520" cy="398880"/>
          </a:xfrm>
          <a:prstGeom prst="rect">
            <a:avLst/>
          </a:prstGeom>
          <a:solidFill>
            <a:srgbClr val="339933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Armenia - Monasterio de Gandza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2760" y="6165720"/>
            <a:ext cx="44251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Sri Lanka - Antigua ciudad de Sigiri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68360" y="6165720"/>
            <a:ext cx="4464000" cy="398880"/>
          </a:xfrm>
          <a:prstGeom prst="rect">
            <a:avLst/>
          </a:prstGeom>
          <a:solidFill>
            <a:srgbClr val="c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</a:rPr>
              <a:t>Tadjiskistán - Mercado de Pendjik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19320" y="404640"/>
            <a:ext cx="5487120" cy="398880"/>
          </a:xfrm>
          <a:prstGeom prst="rect">
            <a:avLst/>
          </a:prstGeom>
          <a:solidFill>
            <a:srgbClr val="00478e"/>
          </a:solidFill>
          <a:ln w="9360">
            <a:solidFill>
              <a:srgbClr val="0047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</a:rPr>
              <a:t>Taiwán - Taipei monumento a Chiang Kai-sh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47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5280" y="6093000"/>
            <a:ext cx="4859280" cy="398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ailandia – Phuket, bahía de Phang-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8360" y="476280"/>
            <a:ext cx="3021480" cy="398880"/>
          </a:xfrm>
          <a:prstGeom prst="rect">
            <a:avLst/>
          </a:prstGeom>
          <a:solidFill>
            <a:srgbClr val="0047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</a:rPr>
              <a:t>Tíbet – Palacio de Pot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47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1320" y="6093000"/>
            <a:ext cx="4255920" cy="398880"/>
          </a:xfrm>
          <a:prstGeom prst="rect">
            <a:avLst/>
          </a:prstGeom>
          <a:solidFill>
            <a:srgbClr val="c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Timor oriental – Dili, redes de pes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17880" y="6093000"/>
            <a:ext cx="4612680" cy="3988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</a:rPr>
              <a:t>Turkmenistán – Hombre con su caba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a4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2760" y="6165720"/>
            <a:ext cx="2631240" cy="398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</a:rPr>
              <a:t>Turquía - Capadoc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91320" y="6093000"/>
            <a:ext cx="3112920" cy="398880"/>
          </a:xfrm>
          <a:prstGeom prst="rect">
            <a:avLst/>
          </a:prstGeom>
          <a:solidFill>
            <a:srgbClr val="0085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</a:rPr>
              <a:t>Uzbekistán - Samark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85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6093000"/>
            <a:ext cx="503532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ietnam - Ninh Binh, grutas deTam C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37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400" y="6093000"/>
            <a:ext cx="2899440" cy="398880"/>
          </a:xfrm>
          <a:prstGeom prst="rect">
            <a:avLst/>
          </a:prstGeom>
          <a:solidFill>
            <a:srgbClr val="3399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Azerbayán - Aras B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89160" y="6021360"/>
            <a:ext cx="4835160" cy="398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China – Guangxi, montañas Karst y río 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781680" cy="176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3480" y="6093000"/>
            <a:ext cx="1992600" cy="398880"/>
          </a:xfrm>
          <a:prstGeom prst="rect">
            <a:avLst/>
          </a:prstGeom>
          <a:solidFill>
            <a:srgbClr val="00a452"/>
          </a:solidFill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Bahrein - Dur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27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0240" y="6093000"/>
            <a:ext cx="4655160" cy="398880"/>
          </a:xfrm>
          <a:prstGeom prst="rect">
            <a:avLst/>
          </a:prstGeom>
          <a:solidFill>
            <a:srgbClr val="0066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Bangladesh - Inundaciones del monz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27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19680" y="6165720"/>
            <a:ext cx="4580640" cy="398880"/>
          </a:xfrm>
          <a:prstGeom prst="rect">
            <a:avLst/>
          </a:prstGeom>
          <a:solidFill>
            <a:srgbClr val="0066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Bután - secando la comida en el tej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42920" y="5805360"/>
            <a:ext cx="7416720" cy="7038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Brunei: Bandar Seri Begawan, mezquita del Sultan Omar Ali Saifudd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06:55:58Z</dcterms:created>
  <dc:creator>josep maria</dc:creator>
  <dc:description>Adaptación: Mar/Redistribuido Docynigo@yahoo.com</dc:description>
  <dc:language>en-US</dc:language>
  <cp:lastModifiedBy>Scoala 2</cp:lastModifiedBy>
  <dcterms:modified xsi:type="dcterms:W3CDTF">2011-02-21T19:17:02Z</dcterms:modified>
  <cp:revision>24</cp:revision>
  <dc:subject/>
  <dc:title>Asia Misteriosa</dc:title>
</cp:coreProperties>
</file>